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CB4-B7B3-4164-A35B-722406C0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7479-0C66-40BE-9F88-D58ACD75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C87-E61C-43B5-AD8E-7174337F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999-15A7-4CC2-91D2-B615E334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FCE0-1063-443B-9658-97C78C74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91C-25A5-4370-A0A8-2CE63EA5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566-A773-486F-A6F2-DBD79F1B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551-8D21-4E4F-8FE0-06B28A06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6C49-C0CC-4EB2-B3C3-F67A78C8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FF5-AD6C-4D04-9BBD-6BEB2815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30C-4BC6-453F-9BB2-188D679A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195-2B61-4216-93DB-28492763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B6DC-3D90-40CA-91A4-8599A32035A3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1.3 Narrative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056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arrative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What is Narrativ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y writing that tells a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ells a story in a connected series of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What types of materials are narrativ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wo of the most common types of narrative texts are short stories and novels.  It could also take the form of a bi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arrative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What are the major elements of Narrative Tex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f497d"/>
                </a:solidFill>
                <a:latin typeface="Calibri"/>
              </a:rPr>
              <a:t>Characters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re the people in a short story or no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ach character has certain qualities or </a:t>
            </a:r>
            <a:r>
              <a:rPr b="0" lang="en-CA" sz="3200" spc="-1" strike="noStrike">
                <a:solidFill>
                  <a:srgbClr val="1f497d"/>
                </a:solidFill>
                <a:latin typeface="Calibri"/>
              </a:rPr>
              <a:t>character traits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at the reader discovers as the story unfo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arrative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What are the major elements of Narrative Tex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Characters also have </a:t>
            </a:r>
            <a:r>
              <a:rPr b="0" lang="en-CA" sz="3000" spc="-1" strike="noStrike">
                <a:solidFill>
                  <a:srgbClr val="1f497d"/>
                </a:solidFill>
                <a:latin typeface="Calibri"/>
              </a:rPr>
              <a:t>motivations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that cause them to act in a certain w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CA" sz="3000" spc="-1" strike="noStrike">
                <a:solidFill>
                  <a:srgbClr val="1f497d"/>
                </a:solidFill>
                <a:latin typeface="Calibri"/>
              </a:rPr>
              <a:t>plot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s the sequence of events that happens in a story or novel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Usually the plot involves one or more </a:t>
            </a:r>
            <a:r>
              <a:rPr b="0" lang="en-CA" sz="3000" spc="-1" strike="noStrike">
                <a:solidFill>
                  <a:srgbClr val="1f497d"/>
                </a:solidFill>
                <a:latin typeface="Calibri"/>
              </a:rPr>
              <a:t>conflicts, or struggles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between two opposing for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arrative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What are the major elements of Narrative Tex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CA" sz="3200" spc="-1" strike="noStrike">
                <a:solidFill>
                  <a:srgbClr val="1f497d"/>
                </a:solidFill>
                <a:latin typeface="Calibri"/>
              </a:rPr>
              <a:t>resolution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f the plot shows how the conflict is resolved, or cleared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CA" sz="3200" spc="-1" strike="noStrike">
                <a:solidFill>
                  <a:srgbClr val="1f497d"/>
                </a:solidFill>
                <a:latin typeface="Calibri"/>
              </a:rPr>
              <a:t>setting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s the </a:t>
            </a:r>
            <a:r>
              <a:rPr b="0" lang="en-CA" sz="3200" spc="-1" strike="noStrike">
                <a:solidFill>
                  <a:srgbClr val="1f497d"/>
                </a:solidFill>
                <a:latin typeface="Calibri"/>
              </a:rPr>
              <a:t>time and place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which the action of a story takes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ften the setting affects the </a:t>
            </a:r>
            <a:r>
              <a:rPr b="0" lang="en-CA" sz="3200" spc="-1" strike="noStrike">
                <a:solidFill>
                  <a:srgbClr val="1f497d"/>
                </a:solidFill>
                <a:latin typeface="Calibri"/>
              </a:rPr>
              <a:t>mood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f the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arrative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What are the major elements of Narrative Tex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CA" sz="3000" spc="-1" strike="noStrike">
                <a:solidFill>
                  <a:srgbClr val="1f497d"/>
                </a:solidFill>
                <a:latin typeface="Calibri"/>
              </a:rPr>
              <a:t>theme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of a story is the main idea or message that the author wants you to think abou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1f497d"/>
                </a:solidFill>
                <a:latin typeface="Calibri"/>
              </a:rPr>
              <a:t>Figures of Speech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nclude the use of imaginative language that is not meant to be taken as literal truth.  Some common figures of speech are </a:t>
            </a:r>
            <a:r>
              <a:rPr b="0" lang="en-CA" sz="3000" spc="-1" strike="noStrike">
                <a:solidFill>
                  <a:srgbClr val="1f497d"/>
                </a:solidFill>
                <a:latin typeface="Calibri"/>
              </a:rPr>
              <a:t>similes, metaphors, personification and hyperbo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036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5:09:36Z</dcterms:created>
  <dc:creator>Jason</dc:creator>
  <dc:description/>
  <dc:language>en-US</dc:language>
  <cp:lastModifiedBy>Jason</cp:lastModifiedBy>
  <dcterms:modified xsi:type="dcterms:W3CDTF">2011-02-09T17:54:02Z</dcterms:modified>
  <cp:revision>8</cp:revision>
  <dc:subject/>
  <dc:title>1.3 Narrative Text</dc:title>
</cp:coreProperties>
</file>